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6141F0-D13F-4861-89FB-C155A5AE578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39BE68-58C3-4348-9D71-98393A0FFF7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3F1AE2-6FFC-4371-B16B-6E48490706C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CFA0FB-D4AF-4B21-A441-14EA17D2E2B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D67130-FDEA-415C-B83F-36E245D5E17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406B5-3B42-4091-9B79-7722585A03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804E4-5882-4E7B-8631-EE8FA3FF4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BEBD6-F224-43A7-AE82-FC138B66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D1A06-F5C9-4577-A24E-BCE50B546F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460D6-3385-4EDC-AC30-F2B018C39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44627-A192-4EB2-A603-95696E408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9DEA1-5A14-46F8-93CC-56630964A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5D627-2B39-44AD-ACB3-A86D21288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84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FC53E-AF8E-4999-9A4E-2168ADE29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28014-8E6A-4320-809F-F483C03C0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8F91A-3364-4952-B8F2-693FF2958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648AC-DD91-41D9-86C1-4BD0BC2BD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225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225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77793C3-3169-4965-9B23-9552F0F38C2B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estructura de la Tier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1332000" y="2666880"/>
            <a:ext cx="619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</a:rPr>
              <a:t>LA DINÁMICA DE LA GEOSFE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dinámica de la geosfe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684360" y="1197000"/>
            <a:ext cx="7956360" cy="9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calor interno de la Tierra, llamado energía geotérmica, aumenta con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profundidad y es el motor de la dinámica interna de la geosfer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os desplazamientos se denominan corrientes de convec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826920" y="69228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La dinámica de la geosfe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8" descr=""/>
          <p:cNvPicPr/>
          <p:nvPr/>
        </p:nvPicPr>
        <p:blipFill>
          <a:blip r:embed="rId2"/>
          <a:stretch/>
        </p:blipFill>
        <p:spPr>
          <a:xfrm>
            <a:off x="3348000" y="2340000"/>
            <a:ext cx="2879640" cy="39592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9"/>
          <p:cNvSpPr/>
          <p:nvPr/>
        </p:nvSpPr>
        <p:spPr>
          <a:xfrm>
            <a:off x="755640" y="3933720"/>
            <a:ext cx="252108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intenso calor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l manto profundo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hace que las rocas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e hagan menos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nsas y asciendan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hacia la superfici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6659640" y="2637000"/>
            <a:ext cx="2484360" cy="24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l acercarse al manto superior, las rocas se enfrían y se hacen más densas, volviendo a hundirse hacia zonas más profundas, donde vuelven a calentarse y ascende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AutoShape 11"/>
          <p:cNvSpPr/>
          <p:nvPr/>
        </p:nvSpPr>
        <p:spPr>
          <a:xfrm>
            <a:off x="2660760" y="4826160"/>
            <a:ext cx="1838160" cy="145800"/>
          </a:xfrm>
          <a:prstGeom prst="rightArrow">
            <a:avLst>
              <a:gd name="adj1" fmla="val 34648"/>
              <a:gd name="adj2" fmla="val 132319"/>
            </a:avLst>
          </a:prstGeom>
          <a:solidFill>
            <a:srgbClr val="ff950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AutoShape 12"/>
          <p:cNvSpPr/>
          <p:nvPr/>
        </p:nvSpPr>
        <p:spPr>
          <a:xfrm rot="10800000">
            <a:off x="4856040" y="3132000"/>
            <a:ext cx="1627200" cy="146160"/>
          </a:xfrm>
          <a:prstGeom prst="rightArrow">
            <a:avLst>
              <a:gd name="adj1" fmla="val 38093"/>
              <a:gd name="adj2" fmla="val 140554"/>
            </a:avLst>
          </a:prstGeom>
          <a:solidFill>
            <a:srgbClr val="c5000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13 CuadroTexto"/>
          <p:cNvSpPr/>
          <p:nvPr/>
        </p:nvSpPr>
        <p:spPr>
          <a:xfrm>
            <a:off x="324000" y="4005360"/>
            <a:ext cx="360360" cy="36828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14 CuadroTexto"/>
          <p:cNvSpPr/>
          <p:nvPr/>
        </p:nvSpPr>
        <p:spPr>
          <a:xfrm>
            <a:off x="6227640" y="2708280"/>
            <a:ext cx="360360" cy="36828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1:47:55Z</dcterms:created>
  <dc:creator>Beatriz</dc:creator>
  <dc:description/>
  <dc:language>en-US</dc:language>
  <cp:lastModifiedBy>Ana</cp:lastModifiedBy>
  <dcterms:modified xsi:type="dcterms:W3CDTF">2011-07-21T10:23:16Z</dcterms:modified>
  <cp:revision>44</cp:revision>
  <dc:subject/>
  <dc:title>Diapositiva 1</dc:title>
</cp:coreProperties>
</file>